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A33-7531-4612-9CBD-BE6FD087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C85-E1B1-402C-9692-9A84FBE7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62F-1083-4B3D-9378-8E244331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9FE-871D-483F-92E3-C491C1CA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8E4-66B0-4D07-9542-BEF1A9B6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10D-FE43-4965-B141-BB93ED08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F65-A62F-46FE-9208-90F4DAF4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E9C-3BCE-46DA-B092-366323EF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9FD-9E8B-4F3D-B91B-9EFB6210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A62-0FAC-4C57-A979-2352200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FE0-3EDF-4761-9236-EDA6E5F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1BC-92D5-4D5F-A7CC-8F46A28E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CD4E-F4E9-4D50-99DA-125656C9F736}" type="slidenum"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4200" y="4038480"/>
            <a:ext cx="49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University of Min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nd Metall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rakow 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cs.agh.edu.p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BSLOGO4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logo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7432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0880" y="304920"/>
            <a:ext cx="63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tity and repository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2560" y="1143000"/>
            <a:ext cx="717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entities possess dynamic attributes (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y notifies registered observers of changes of it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universal repository template has been identifi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enables access to its entities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object references (COR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possesses a sophisticated search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stration of an observer in a set of entities in a si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t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295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810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666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6386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143000"/>
            <a:ext cx="4419720" cy="4952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20000" y="1295280"/>
            <a:ext cx="39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_Rep: Entity_Rep_Observ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Entity&gt; Entit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Entities entity_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 add   (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update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remove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ies find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::Value_Descriptons find_values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ies complex_query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304920"/>
            <a:ext cx="619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pository interface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419076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1219320"/>
            <a:ext cx="419076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0360" y="1371600"/>
            <a:ext cx="356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ntity: Entity_Observ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_Command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escri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 attribu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 attribu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Value_Descri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:: Value_attribut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::Value_ attribu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Value_Description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alue_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371600"/>
            <a:ext cx="4209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Patter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oolean is_an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::Pattern attribute1_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:: Pattern attributeN_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tribute Repository_Item_Id item_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Description desc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Type1 attribut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TypeN attribu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38088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tity interface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724280" y="1295280"/>
            <a:ext cx="4191120" cy="1828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295280"/>
            <a:ext cx="419112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720" y="380880"/>
            <a:ext cx="40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Reposit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51560" y="1336680"/>
            <a:ext cx="298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_Location_De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dge_H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_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_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44792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A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5640" y="373392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otification mechanism with  QoS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3657600"/>
            <a:ext cx="739116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61720" y="30492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tification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0" y="1523880"/>
            <a:ext cx="2286000" cy="3581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91440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2209680"/>
            <a:ext cx="83844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93480" y="1600200"/>
            <a:ext cx="14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3124080"/>
            <a:ext cx="91440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3048120"/>
            <a:ext cx="838440" cy="99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114800"/>
            <a:ext cx="838440" cy="762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41148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1523880"/>
            <a:ext cx="49356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133720"/>
            <a:ext cx="492120" cy="40932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74320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03848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342900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4648320"/>
            <a:ext cx="492120" cy="40932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267080" y="1676160"/>
            <a:ext cx="1981440" cy="609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267080" y="2361960"/>
            <a:ext cx="198144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2895480"/>
            <a:ext cx="1981440" cy="76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200400"/>
            <a:ext cx="2133360" cy="914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91120" y="1828440"/>
            <a:ext cx="205740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267080" y="3657600"/>
            <a:ext cx="2057400" cy="76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67080" y="1904760"/>
            <a:ext cx="2057400" cy="2361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267080" y="2437920"/>
            <a:ext cx="2057400" cy="20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2971800"/>
            <a:ext cx="1981440" cy="1752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64400" y="52578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y Observers are notified on update and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Observers are notified on each addition of a new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ers’ lists are 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7080" y="4724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66"/>
                </a:solidFill>
                <a:latin typeface="Times New Roman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334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60958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715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3962520"/>
            <a:ext cx="198144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2680" y="457200"/>
            <a:ext cx="72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View - a major new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8880" y="201600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nables tracing of selected locations and locatabl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1320" y="274320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new View may be created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85560" y="3429000"/>
            <a:ext cx="64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troduced in order to structure and enabl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iltering of location reporting events (</a:t>
            </a:r>
            <a:r>
              <a:rPr b="0" i="1" lang="en-IE" sz="2400" spc="-1" strike="noStrike">
                <a:solidFill>
                  <a:srgbClr val="000000"/>
                </a:solidFill>
                <a:latin typeface="Times New Roman"/>
              </a:rPr>
              <a:t>sightings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2760" y="449568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ides details of ABS hardware from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21686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06560" y="28544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06560" y="35402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6560" y="460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324480" y="3429000"/>
            <a:ext cx="68580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743920" y="609480"/>
            <a:ext cx="39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5041800"/>
            <a:ext cx="43164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54640" y="5176800"/>
            <a:ext cx="3078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98880" y="5041800"/>
            <a:ext cx="43020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59360" y="5176800"/>
            <a:ext cx="3096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24640" y="5041800"/>
            <a:ext cx="43164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86560" y="5176800"/>
            <a:ext cx="3078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00880" y="2722680"/>
            <a:ext cx="49356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86280" y="4290840"/>
            <a:ext cx="862200" cy="5461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68960" y="2790720"/>
            <a:ext cx="86184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00880" y="2722680"/>
            <a:ext cx="49356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1280" y="2585880"/>
            <a:ext cx="2527200" cy="95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1000" y="2927520"/>
            <a:ext cx="863640" cy="5457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1000" y="2927520"/>
            <a:ext cx="863640" cy="5457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07040" y="2722680"/>
            <a:ext cx="2527200" cy="955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4840" y="306396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14840" y="306396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1000" y="2859120"/>
            <a:ext cx="2527200" cy="95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38680" y="320040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40320" y="3541680"/>
            <a:ext cx="49392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38680" y="320040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40320" y="3541680"/>
            <a:ext cx="49392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971800"/>
            <a:ext cx="2527200" cy="95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23000" y="3200400"/>
            <a:ext cx="86328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ie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78400" y="3063960"/>
            <a:ext cx="73188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26360" y="2722680"/>
            <a:ext cx="1171440" cy="1023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34160" y="2790720"/>
            <a:ext cx="493920" cy="273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34160" y="3268800"/>
            <a:ext cx="49392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89280" y="1973160"/>
            <a:ext cx="4939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538960" y="4768920"/>
            <a:ext cx="431640" cy="272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6340320" y="4836600"/>
            <a:ext cx="370080" cy="204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476680" y="3678120"/>
            <a:ext cx="617400" cy="612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5416200" y="3949560"/>
            <a:ext cx="492120" cy="409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600520" y="3949560"/>
            <a:ext cx="431640" cy="409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428640" y="4571640"/>
            <a:ext cx="1987560" cy="469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276720" y="4571640"/>
            <a:ext cx="914400" cy="501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30800" y="2382840"/>
            <a:ext cx="123840" cy="81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38600" y="2382840"/>
            <a:ext cx="431640" cy="81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76760" y="2382840"/>
            <a:ext cx="246240" cy="476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98880" y="2382840"/>
            <a:ext cx="430200" cy="3398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04240" y="3132000"/>
            <a:ext cx="619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58000" y="3132000"/>
            <a:ext cx="619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81840" y="3132000"/>
            <a:ext cx="6048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70520" y="365760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Dynamic 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18080" y="3505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tatic 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724360" y="3200040"/>
            <a:ext cx="55404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786280" y="3336840"/>
            <a:ext cx="184788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5480" y="52452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Po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88640" y="43592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Main Sig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65160" y="19051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896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8492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2519280"/>
            <a:ext cx="499248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67240" y="4973760"/>
            <a:ext cx="4992480" cy="14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720" y="53722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080" y="34671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82880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2286000"/>
            <a:ext cx="762120" cy="2209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7280" y="31240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50320" y="304812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429000"/>
            <a:ext cx="76176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51040" y="342900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8280" y="609480"/>
            <a:ext cx="19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5146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2004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4956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105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440" y="2286000"/>
            <a:ext cx="51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ftwar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5560" y="30988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ystem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080" y="3708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7720" y="43434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7360" y="4952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ftwar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828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9880" y="16765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68360" y="609480"/>
            <a:ext cx="565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 system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munication point-point  vs.  point-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valuation of point-point communication in AB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ulticast communication study in AB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3962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387680" cy="4559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978560" y="609480"/>
            <a:ext cx="49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QoS in AB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cing interval (or burst del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9360" y="2778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scalable up to several hundred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238640" cy="44542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086000" cy="4454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87080" y="609480"/>
            <a:ext cx="784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luence of ORB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419360" cy="4724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elays in AB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rt delays even for a large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Notification systems’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server-observed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 separation of events’ producers and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ialised notification services instead of   ad-hoc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1337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819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vent Channel (EC)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914400" y="1523880"/>
          <a:ext cx="7478640" cy="437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78640" cy="43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6" name="logo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internal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914400" y="1523880"/>
          <a:ext cx="71629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1629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2" name="logo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performance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765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vent Channels: typed and untyp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647960" cy="44956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33520" y="1828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logo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4848480" cy="4557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Multicast systems’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int-to-poin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9360" y="2778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cas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vent Channel implementation in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2 ORB-s: OmniORB i Orb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3 operating systems: Solaris, Linux,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ample clients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3623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3581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4191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89640" y="380880"/>
            <a:ext cx="68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eople involved in ABng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9200" y="1133640"/>
            <a:ext cx="24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the O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4800" y="227664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the U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67652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Frazer Ben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ete Steg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895480"/>
            <a:ext cx="2713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Igor Bok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Łukasz Czekie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Jacek Długopol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ndrzej Kró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leksander Laurent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Daniel Mencnar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Tomasz Moj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iotr Nawroc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Małgorzata Ste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Jakub Szymas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ndrzej Usz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Krzysztof Ziel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Sławomir Ziel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7524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971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32767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5812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114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4197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57913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2485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90720" y="5791320"/>
            <a:ext cx="380988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1143000"/>
            <a:ext cx="37339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038480"/>
            <a:ext cx="3657600" cy="160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038480"/>
            <a:ext cx="3809880" cy="160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1143000"/>
            <a:ext cx="3809880" cy="26668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6440" y="304920"/>
            <a:ext cx="43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217160" y="1066680"/>
            <a:ext cx="337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J)abng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J)abng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PB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Record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 Device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Redirection M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book librar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5280" y="4267080"/>
            <a:ext cx="33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Reposit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Aware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Event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6360" y="12952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962520" y="457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Jab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jabba_sh4" descr=""/>
          <p:cNvPicPr/>
          <p:nvPr/>
        </p:nvPicPr>
        <p:blipFill>
          <a:blip r:embed="rId2"/>
          <a:stretch/>
        </p:blipFill>
        <p:spPr>
          <a:xfrm>
            <a:off x="762120" y="1465200"/>
            <a:ext cx="771516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74320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78" name="abngpbx_s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4657680" cy="24336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3880" y="3048120"/>
            <a:ext cx="32767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358128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3505320"/>
            <a:ext cx="2743200" cy="228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35812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40280" y="350532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cc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cc"/>
                </a:solidFill>
                <a:latin typeface="Times New Roman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0" y="2209680"/>
            <a:ext cx="1143000" cy="83844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251460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182880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57600" y="213372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1600200"/>
            <a:ext cx="2895840" cy="25146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0800" y="156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99"/>
                </a:solidFill>
                <a:latin typeface="Times New Roman"/>
              </a:rPr>
              <a:t>AB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175248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236232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97180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43828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00600" y="20574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51040" y="297180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ware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53200" y="175248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perty R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0680" y="2362320"/>
            <a:ext cx="10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dio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4800600" y="2590920"/>
            <a:ext cx="1371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6600" y="23623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68320" y="3124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340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67280" y="2193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11520" y="2666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81080" y="3184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057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2920" y="380880"/>
            <a:ext cx="25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B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74320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515320" y="380880"/>
            <a:ext cx="40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book libr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library" descr=""/>
          <p:cNvPicPr/>
          <p:nvPr/>
        </p:nvPicPr>
        <p:blipFill>
          <a:blip r:embed="rId2"/>
          <a:stretch/>
        </p:blipFill>
        <p:spPr>
          <a:xfrm>
            <a:off x="3355920" y="1143000"/>
            <a:ext cx="373068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5" name="library-s" descr=""/>
          <p:cNvPicPr/>
          <p:nvPr/>
        </p:nvPicPr>
        <p:blipFill>
          <a:blip r:embed="rId3"/>
          <a:stretch/>
        </p:blipFill>
        <p:spPr>
          <a:xfrm>
            <a:off x="1755720" y="2286000"/>
            <a:ext cx="2590920" cy="2590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4160" y="609480"/>
            <a:ext cx="50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280600" y="1676520"/>
            <a:ext cx="4024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.cs.agh.edu.pl/AB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min and Users’ G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Bng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D -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 sit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urce code of ABng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ver Omni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17524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202920" y="60948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40384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66680" y="55627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89760" y="1752480"/>
            <a:ext cx="683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rn object oriented distributed softwar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 System has been successfully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ystem has been built around an event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that used the observer-observed design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ification mechanisms of remote events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s of QoS  scales well up to a few hund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y large systems must exploit a notification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 on top of multicast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219320" y="20574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21680" y="609480"/>
            <a:ext cx="32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51680" y="1870200"/>
            <a:ext cx="65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of observable entities concept is eleg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provides powerful mechanisms for many AB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. It makes possible to use practicall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ve database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1720" y="533520"/>
            <a:ext cx="39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1160" y="1793880"/>
            <a:ext cx="66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abstract and physical components are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CORB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ies of the same type are stored in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system both single entities and repositori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notification purposes the observer-ob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pattern is explo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946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8862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87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8288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560" y="609480"/>
            <a:ext cx="27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oller-fron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0636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581280" y="19810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429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0384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48006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5480" y="18288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C/104-based Network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3320" y="2438280"/>
            <a:ext cx="502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p to 6 RS-422/RS-232 serial inte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connect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5840" y="327672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owered by LinuxPiccolo 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7200" y="3886200"/>
            <a:ext cx="529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in application: </a:t>
            </a:r>
            <a:r>
              <a:rPr b="0" i="1" lang="en-IE" sz="2400" spc="-1" strike="noStrike">
                <a:solidFill>
                  <a:srgbClr val="000000"/>
                </a:solidFill>
                <a:latin typeface="Times New Roman"/>
              </a:rPr>
              <a:t>abngpoller -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ulti-l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ulti-protocol, multithreaded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6483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mniORB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3320" y="518148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asy LCD console-based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lcd-console-s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0779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526400" y="60948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 - LCD cons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6226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1200" y="247032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4x16 characters LCD display +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156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10760" y="300348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S-232 communication with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1688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10040" y="3689280"/>
            <a:ext cx="48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lexible - console can be used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figuration of any device - not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ng po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webadmin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3898800" cy="39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068480" y="533520"/>
            <a:ext cx="70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 - Webadmin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4145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39200" y="1752480"/>
            <a:ext cx="408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CD console is used to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asic network parametrs.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rther configuration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one via the Webadmi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8769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8480" y="47242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odule still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5053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45320" y="33526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GI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1068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41720" y="380988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pache http server runn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8:23:37Z</dcterms:created>
  <dc:creator>K.Z.</dc:creator>
  <dc:description/>
  <dc:language>en-US</dc:language>
  <cp:lastModifiedBy>Pawel Rzepa</cp:lastModifiedBy>
  <cp:lastPrinted>1999-07-14T10:54:47Z</cp:lastPrinted>
  <dcterms:modified xsi:type="dcterms:W3CDTF">1999-07-14T14:35:00Z</dcterms:modified>
  <cp:revision>66</cp:revision>
  <dc:subject/>
  <dc:title>Bez tytułu slajdu</dc:title>
</cp:coreProperties>
</file>