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D0B-ACCF-4B9F-8F6D-7562EDA2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0AB-63DA-42D2-B1CB-2031079A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D90-7C1B-4DC3-B69C-E64B8EB3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8F3-6C31-4EE2-B8F5-F999C813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F3A-185B-4D4B-A407-5CC040DC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5B1-54EE-433C-9AAF-144D5089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D1C-5C50-4F80-85F3-52129C14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AA5-7DAF-4ED4-BCD3-C977FDD2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055-C5FA-4E3B-9DB4-D219CCF3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86E-0301-4A97-907F-3F50E65C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4A5-C2B2-4B7D-A2CA-639F208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3A7-68EF-4583-A96F-0EE61FC8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BDD8-9DBA-4E85-A3DC-416179BB3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Architektury Oprogramowan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proszonych Systemów Komputerowyc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4572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447920" y="24382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2438280"/>
            <a:ext cx="57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Skalowaln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owych rozprosz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środowisk tworzenia aplikacji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1055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34290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4191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owiązanie stanó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 ich reprezentacją w bazie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3352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rwał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ów  sieciowych - Persysteność - Czas ży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267080"/>
            <a:ext cx="380880" cy="3812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1920" y="51055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obilnoś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02600" y="2438280"/>
            <a:ext cx="60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olerancja uszkodzeń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w sieci obiektów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esynchronizacja st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51460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3240" y="487692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yfikacja zda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365760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kazywanie 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z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art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657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52480" y="2895480"/>
            <a:ext cx="15264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81952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3962520"/>
            <a:ext cx="304560" cy="457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17524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rozpowszechnia inform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828080" y="556272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zorzec Obserwator /Obserw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3200400"/>
            <a:ext cx="7696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343400"/>
            <a:ext cx="1067040" cy="838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2200" y="2057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2400" y="4495680"/>
            <a:ext cx="2797560" cy="642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y Monitor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tywne Bazy Da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5640" y="4075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Zdar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8" idx="2"/>
            <a:endCxn id="269" idx="0"/>
          </p:cNvCxnSpPr>
          <p:nvPr/>
        </p:nvCxnSpPr>
        <p:spPr>
          <a:xfrm flipH="1" rot="16200000">
            <a:off x="2476440" y="2247480"/>
            <a:ext cx="1448640" cy="274392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0" name=""/>
          <p:cNvCxnSpPr>
            <a:stCxn id="272" idx="2"/>
            <a:endCxn id="269" idx="0"/>
          </p:cNvCxnSpPr>
          <p:nvPr/>
        </p:nvCxnSpPr>
        <p:spPr>
          <a:xfrm rot="5400000">
            <a:off x="4342680" y="3124080"/>
            <a:ext cx="1448640" cy="991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1" name=""/>
          <p:cNvCxnSpPr>
            <a:stCxn id="271" idx="2"/>
            <a:endCxn id="269" idx="0"/>
          </p:cNvCxnSpPr>
          <p:nvPr/>
        </p:nvCxnSpPr>
        <p:spPr>
          <a:xfrm rot="5400000">
            <a:off x="4914000" y="2552400"/>
            <a:ext cx="1448640" cy="2134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2" name=""/>
          <p:cNvCxnSpPr>
            <a:stCxn id="270" idx="2"/>
            <a:endCxn id="269" idx="0"/>
          </p:cNvCxnSpPr>
          <p:nvPr/>
        </p:nvCxnSpPr>
        <p:spPr>
          <a:xfrm rot="5400000">
            <a:off x="5485680" y="1981080"/>
            <a:ext cx="1448640" cy="3277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3" name=""/>
          <p:cNvCxnSpPr>
            <a:stCxn id="269" idx="0"/>
            <a:endCxn id="268" idx="2"/>
          </p:cNvCxnSpPr>
          <p:nvPr/>
        </p:nvCxnSpPr>
        <p:spPr>
          <a:xfrm flipV="1" rot="16200000">
            <a:off x="2476080" y="2247120"/>
            <a:ext cx="1448640" cy="274392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4" name=""/>
          <p:cNvCxnSpPr>
            <a:stCxn id="269" idx="0"/>
            <a:endCxn id="272" idx="2"/>
          </p:cNvCxnSpPr>
          <p:nvPr/>
        </p:nvCxnSpPr>
        <p:spPr>
          <a:xfrm flipH="1" flipV="1" rot="5400000">
            <a:off x="4343040" y="3123720"/>
            <a:ext cx="1448640" cy="991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5" name=""/>
          <p:cNvCxnSpPr>
            <a:stCxn id="269" idx="0"/>
            <a:endCxn id="271" idx="2"/>
          </p:cNvCxnSpPr>
          <p:nvPr/>
        </p:nvCxnSpPr>
        <p:spPr>
          <a:xfrm flipH="1" flipV="1" rot="5400000">
            <a:off x="4914360" y="2552040"/>
            <a:ext cx="1448640" cy="2134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6" name=""/>
          <p:cNvCxnSpPr>
            <a:stCxn id="269" idx="0"/>
            <a:endCxn id="270" idx="2"/>
          </p:cNvCxnSpPr>
          <p:nvPr/>
        </p:nvCxnSpPr>
        <p:spPr>
          <a:xfrm flipH="1" flipV="1" rot="5400000">
            <a:off x="5486040" y="1980720"/>
            <a:ext cx="1448640" cy="3277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52480" y="2819520"/>
            <a:ext cx="15264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1120" y="365760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4114800"/>
            <a:ext cx="167652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5029200"/>
            <a:ext cx="1981080" cy="12193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BA a Obiektowe Baz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38080" y="3200400"/>
            <a:ext cx="769644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4419720"/>
            <a:ext cx="60948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4419720"/>
            <a:ext cx="60984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5105520"/>
            <a:ext cx="167652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638680"/>
            <a:ext cx="1676520" cy="6098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5410080"/>
            <a:ext cx="38124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9600" y="44197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Arial"/>
              </a:rPr>
              <a:t>CORB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895480"/>
            <a:ext cx="0" cy="6098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3505320"/>
            <a:ext cx="2438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350532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4724280"/>
            <a:ext cx="18288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4800600"/>
            <a:ext cx="20574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58672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5486400"/>
            <a:ext cx="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45440" y="1839960"/>
            <a:ext cx="261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8920" y="3276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29200" y="4379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66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1905120"/>
            <a:ext cx="71625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oda badaw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447920" y="1981080"/>
            <a:ext cx="64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eryfikacja rozwiązań na drod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mplementacji eksperymentalnych aplik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200" y="3124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lok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920" y="449568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monitor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5280" y="52578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y wrażliwe 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mobile 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80988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ieciowe systemy multimedia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6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1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32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6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0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4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0880" y="2590920"/>
            <a:ext cx="51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ierunki rozwoju oprogram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7920" y="3657600"/>
            <a:ext cx="52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łasności  wybranych architektur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blemy badaw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0440" y="4724280"/>
            <a:ext cx="50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owe obszary zastosow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410080" y="2895480"/>
            <a:ext cx="3276720" cy="1981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971800"/>
            <a:ext cx="3276360" cy="1981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219320" y="3429000"/>
            <a:ext cx="838080" cy="457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514600"/>
            <a:ext cx="1371600" cy="609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StreamCt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3429000"/>
            <a:ext cx="838080" cy="457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4191120"/>
            <a:ext cx="1067040" cy="30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209680" y="4952880"/>
          <a:ext cx="283716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952880"/>
                    <a:ext cx="28371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114800" y="4876920"/>
          <a:ext cx="2825640" cy="15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876920"/>
                    <a:ext cx="28256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609480" y="5562720"/>
            <a:ext cx="5334120" cy="76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5867280"/>
            <a:ext cx="2209680" cy="38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5334120"/>
            <a:ext cx="2590920" cy="228600"/>
          </a:xfrm>
          <a:prstGeom prst="leftRightArrow">
            <a:avLst>
              <a:gd name="adj1" fmla="val 50000"/>
              <a:gd name="adj2" fmla="val 2256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4114800"/>
            <a:ext cx="990360" cy="4572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3429000"/>
            <a:ext cx="838080" cy="4572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114800"/>
            <a:ext cx="990720" cy="4572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3505320"/>
            <a:ext cx="838080" cy="4572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267080"/>
            <a:ext cx="10666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981080" y="3276720"/>
            <a:ext cx="45720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3429000"/>
            <a:ext cx="53352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8280" y="2895120"/>
            <a:ext cx="1371600" cy="381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2895480"/>
            <a:ext cx="160020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86000" y="3809520"/>
            <a:ext cx="22860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4191120"/>
            <a:ext cx="152280" cy="759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380988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934320" y="4343400"/>
            <a:ext cx="152280" cy="7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0040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43434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388620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0120" y="396252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MG A/V Stream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8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8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9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1981080"/>
            <a:ext cx="46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 rot="2326800">
            <a:off x="3428640" y="4114440"/>
            <a:ext cx="18108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666880"/>
            <a:ext cx="15264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00800" y="3276720"/>
            <a:ext cx="6094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429000"/>
            <a:ext cx="53352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8576600">
            <a:off x="5936400" y="3816720"/>
            <a:ext cx="168480" cy="1068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bilne 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809880" y="22096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2860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46483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47242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44197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44956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1240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32004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81952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29718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2004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28195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32767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6920" y="30481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3276720"/>
            <a:ext cx="685800" cy="45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51814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24480" y="53341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5520" y="56386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4480" y="56386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54100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095880" y="54100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54100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5" idx="3"/>
            <a:endCxn id="425" idx="3"/>
          </p:cNvCxnSpPr>
          <p:nvPr/>
        </p:nvCxnSpPr>
        <p:spPr>
          <a:xfrm>
            <a:off x="2590920" y="3504960"/>
            <a:ext cx="762480" cy="1143720"/>
          </a:xfrm>
          <a:prstGeom prst="curvedConnector5">
            <a:avLst>
              <a:gd name="adj1" fmla="val 129995"/>
              <a:gd name="adj2" fmla="val 50000"/>
              <a:gd name="adj3" fmla="val 129995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35" idx="3"/>
            <a:endCxn id="423" idx="0"/>
          </p:cNvCxnSpPr>
          <p:nvPr/>
        </p:nvCxnSpPr>
        <p:spPr>
          <a:xfrm>
            <a:off x="2590560" y="3504960"/>
            <a:ext cx="3734280" cy="114372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35" idx="3"/>
            <a:endCxn id="421" idx="2"/>
          </p:cNvCxnSpPr>
          <p:nvPr/>
        </p:nvCxnSpPr>
        <p:spPr>
          <a:xfrm flipV="1">
            <a:off x="2590560" y="2666160"/>
            <a:ext cx="1524600" cy="83916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 flipV="1">
            <a:off x="2743200" y="3352680"/>
            <a:ext cx="426708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71800" y="45720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48006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62920" y="3276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23623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4800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276360" y="5257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5257800"/>
            <a:ext cx="15228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5029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276360" y="5029200"/>
            <a:ext cx="15228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5029200"/>
            <a:ext cx="15264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91520" y="3657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67480" y="3809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238520" y="4114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67480" y="4114800"/>
            <a:ext cx="15264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91520" y="3886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7238880" y="388620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43800" y="3886200"/>
            <a:ext cx="15228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19810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1337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95320" y="24382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24280" y="24382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48320" y="22096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95680" y="22096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0600" y="22096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35920" y="37670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Video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2895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IE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79132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Arial"/>
              </a:rPr>
              <a:t>Video follow 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33040" y="5029200"/>
            <a:ext cx="201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Powiąza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ieciowych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ystemów Lokaliza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750680" y="4724280"/>
            <a:ext cx="65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Postęp w tym zakresie jest możliwy poprz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weryfikację praktyczną koncepcji teoretycz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rozwiąz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26668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2666880"/>
            <a:ext cx="60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korzystanie zasobów sieciowych j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wiązane z konstrukcją nowoczes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rstw pośrednicząc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4724280"/>
            <a:ext cx="38088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7640" y="57913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14800" y="4038480"/>
            <a:ext cx="91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MI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194000" y="4800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8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iekt a K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2743200"/>
            <a:ext cx="129528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9760" y="3124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743200"/>
            <a:ext cx="13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9760" y="35053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5800" y="1981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676520"/>
            <a:ext cx="300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12408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4382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44664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08916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88936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278460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89548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7672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38280"/>
            <a:ext cx="129528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7242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trospe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120800">
            <a:off x="2437920" y="3962160"/>
            <a:ext cx="1447920" cy="304560"/>
          </a:xfrm>
          <a:prstGeom prst="leftRightArrow">
            <a:avLst>
              <a:gd name="adj1" fmla="val 50000"/>
              <a:gd name="adj2" fmla="val 9464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410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4100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ezp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eńs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457200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łąc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2866400">
            <a:off x="5105160" y="3962160"/>
            <a:ext cx="1447560" cy="152280"/>
          </a:xfrm>
          <a:prstGeom prst="leftRightArrow">
            <a:avLst>
              <a:gd name="adj1" fmla="val 50000"/>
              <a:gd name="adj2" fmla="val 18923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7826600">
            <a:off x="3127320" y="4600800"/>
            <a:ext cx="1295280" cy="304920"/>
          </a:xfrm>
          <a:prstGeom prst="leftRightArrow">
            <a:avLst>
              <a:gd name="adj1" fmla="val 50000"/>
              <a:gd name="adj2" fmla="val 8456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4271000">
            <a:off x="4533840" y="4609440"/>
            <a:ext cx="1447560" cy="152640"/>
          </a:xfrm>
          <a:prstGeom prst="leftRightArrow">
            <a:avLst>
              <a:gd name="adj1" fmla="val 50000"/>
              <a:gd name="adj2" fmla="val 18879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2280" y="542124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utokon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nsekwencje modelu trójpoziom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47920" y="19051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3480" y="1905120"/>
            <a:ext cx="51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użytk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30481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4480" y="297180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dostępu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0384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876920"/>
            <a:ext cx="4800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żliwość standary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6640" y="6095880"/>
            <a:ext cx="43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Nowy poziom usług system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K.Z.</cp:lastModifiedBy>
  <cp:lastPrinted>1998-09-21T07:40:02Z</cp:lastPrinted>
  <dcterms:modified xsi:type="dcterms:W3CDTF">1998-11-29T15:14:48Z</dcterms:modified>
  <cp:revision>46</cp:revision>
  <dc:subject/>
  <dc:title>Bez tytułu slajdu</dc:title>
</cp:coreProperties>
</file>