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325-D90F-4B92-8642-9E8F61C9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6EB-3A69-4140-B2E7-F41D370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6C6-8029-4BDA-AF3B-0A777E00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1DE-ADB7-4B58-ADC4-3AD40EE5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219-2DD1-4ABF-923B-1EDB29A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986-21FB-47DF-A5DB-7F744290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9FD-3031-4ED3-A1E6-5406E702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6DA-27E1-44CB-B342-568B860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8C3-E3F0-4BBA-A565-9422B46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4ED-D98C-462D-BEBA-8628CC7B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982-170C-480E-BED7-668526B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4ED-DBA3-4773-8143-797226A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51E0-27A5-4EB1-BF7D-0ED3F1309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C:\WINDOWS\rundll32.exe amovie.ocx,RunDll /play /close c:\home\bokun\sun\sun.m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M - Wirtualny System Plików Multimedialnych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7320" y="4937040"/>
            <a:ext cx="7642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or BOKUN, Stanisław STRELNIK, Krzysztof ZIELI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edra Informatyk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kademia Górniczo-Hut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4040"/>
            <a:ext cx="746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częcie transmisji wybranego filmu do wybran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y. Aby możliwa była transmisja, film musi by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ieszczony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enie nowego pliku MPEG do WSPM. Źródł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mienia MPEG podawane jako paramert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ądanie przygotowania filmu do odtwarzania na określon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ń/godzin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odsyłacza do danego 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odsyłacza i ewentualne fizyczne usunięci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d, mkdi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eracje na drzewie katalog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ck, unloc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blokowanie filmu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47760"/>
            <a:ext cx="7673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realizację operacji odpowiedzialny jest moduł managera żą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zapewnia optymalną dystrybucję dokumentów multimedialnych w przypadku występowania wielu video-serwe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uje listę żadań, starając się zapewnić realizację wszystkich zleco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nieje możliwość administracyjnej zmiany priorytetu poszczególnych fil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wyboru funkcji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lini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funkcja priorytetu arcus ta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skok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2133720"/>
          <a:ext cx="390528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39052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05200"/>
            <a:ext cx="693432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 przeszedł fazę implementacji. Wykonane zostały pierwsze testy, jednak niezbędne jest dokonanie obszernych testów celem ustalenia optymalnych parametrów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stały zaimplementowane pierwsze aplikacje w języku Java wykorzystające Java MediaFramework oraz WS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technologii CORBA umożliwiło integrację wielu odmiennych środowisk programowania oraz protokołów sterowania urządzeniami. jak również ułatwiło realizację projektu przez niezależne gru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wają prace nad implementacją mechanizmów zwiększających bezpieczeństwo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5640" y="2361960"/>
            <a:ext cx="4724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atforma sprzętow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refer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19600"/>
            <a:ext cx="7073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jednolitej z punktu widzenia użytkownika przestrzeni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zarządzanie dokumentami przechowyw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dużych ilości dokumentów multimedialnych - kilkaset pełnometrażowych fil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alowalność oraz możliwość adaptacji systemu do nowych rozwiązań sprzęt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interfejs umożliwiający tworzenie aplikacji-klientów w wizualnych środowiskach programowania, takich jak n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ymantec Visual C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160" y="1676520"/>
            <a:ext cx="351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un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c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936800" cy="148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5800" y="4495320"/>
            <a:ext cx="7086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ły programowe wykorzystywane w proje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Content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wprowadzanie plików MPEG do multimedialnego systemu plików 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Stream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odtwarzanie przechowywanych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0932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dware, system operacyjny, system plików specjalizowany do zastosowań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dyskowa o dużej pojemności - 50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plików w standardzie MPEG-1 oraz 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Ethernet 100 Mb, ATM, analogowy - telewizja kab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4648320"/>
            <a:ext cx="636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67652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bot taśmowy ACL 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l264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38140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9000" y="2361600"/>
            <a:ext cx="43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ałkowita 2.64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ustowość biblioteki - 13.5 GB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 niezależne napędy taś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64 taśm o pojemności 10 GB każ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ędkość transmisji pojedync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czytnika- 1.2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 kasety - Compac Tap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952520"/>
            <a:ext cx="388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y dostępu do bibliot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ff00"/>
                </a:solidFill>
                <a:uFillTx/>
                <a:latin typeface="Times New Roman"/>
              </a:rPr>
              <a:t>File Transfer Protocol (F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Network File System (N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160" y="2286000"/>
            <a:ext cx="266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Point 6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24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ętowy koder MPEG-1wyposażony w interfej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esja w czasie rzeczywistym ze stałym opóźnieniem rzędu 1 s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iwane rozdzielczości: 352x288 (SIF) lub 176x144 (QS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2040" y="5105160"/>
            <a:ext cx="5220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 sterowania urządzen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pen Media Device Control Interface (OMD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toczka obiektowa CORBA na bazie OM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76520"/>
          <a:ext cx="396252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3962520" cy="18032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76520"/>
            <a:ext cx="6485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figuracja sieci komputerowej wykorzystywanej do testów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971800"/>
          <a:ext cx="651204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971800"/>
                    <a:ext cx="65120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981080"/>
          <a:ext cx="590400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904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Architektura głównego serwer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2362320"/>
          <a:ext cx="6659280" cy="29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659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AGH</dc:creator>
  <dc:description/>
  <dc:language>en-US</dc:language>
  <cp:lastModifiedBy>K.Z.</cp:lastModifiedBy>
  <cp:lastPrinted>1998-03-16T08:12:04Z</cp:lastPrinted>
  <dcterms:modified xsi:type="dcterms:W3CDTF">1998-09-18T18:33:17Z</dcterms:modified>
  <cp:revision>81</cp:revision>
  <dc:subject/>
  <dc:title>Narzêdzie do testowania</dc:title>
</cp:coreProperties>
</file>