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3456-3ABD-4EDB-9484-20001C38C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5546-0395-4F5A-BF3B-CF2AB8D3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13A-03F1-4EAB-97C4-56321873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934A-97CC-4B75-8C05-0928BA712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0B77-3125-40C2-BDB5-C9D6B4116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597D-EBB9-4942-8E10-80930245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882F-9381-4F8B-BDDC-C416F0691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5685-3550-466D-B32E-6158D040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40B-BB59-47C9-B02C-E258E21C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C17D-F64A-4477-813D-0F94C733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96A-5851-424E-93DD-9DA96B8B7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01B7-CC5B-4842-A5F5-78B9467B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957E-0CEF-44CF-975A-610A86816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WINDOWS\rundll32.exe amovie.ocx,RunDll /play /close c:\home\kz\sun.mpg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home\bokun\camera\vic.bat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21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590920"/>
            <a:ext cx="7086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owoczesne Rozproszone System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mputerow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81280" y="46483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rzysztof Zielińs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atedra Informaty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kademia Górniczo-Hutnicz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71600" y="2971800"/>
            <a:ext cx="0" cy="838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98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04812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674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1532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omunikacja pomiędzy obiek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38080" y="4648320"/>
            <a:ext cx="7772400" cy="761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051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44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29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74320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066680" y="3962520"/>
            <a:ext cx="281952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81480" y="3962520"/>
            <a:ext cx="29718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246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086600" y="3352680"/>
            <a:ext cx="53352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8487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6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53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074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907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08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887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506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99200" y="480996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  I  O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8280" y="4267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38280" y="502920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6781680" y="42667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876920"/>
            <a:ext cx="121932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52480" y="28195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e organizacji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75248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79132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91320" y="3886200"/>
            <a:ext cx="1143000" cy="99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752480" y="495288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548640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48520" y="48769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38098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32767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95640" y="18273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wu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10080" y="1827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ój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22320" y="2678040"/>
            <a:ext cx="16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użytkow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1520" y="393228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14840" y="548640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rząd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29160" y="64468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20280" y="64468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Środowiska oprogram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274" name="javalogo52x88" descr=""/>
          <p:cNvPicPr/>
          <p:nvPr/>
        </p:nvPicPr>
        <p:blipFill>
          <a:blip r:embed="rId2"/>
          <a:stretch/>
        </p:blipFill>
        <p:spPr>
          <a:xfrm>
            <a:off x="5791320" y="213372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219320" y="2286000"/>
            <a:ext cx="1143000" cy="609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19320" y="35053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5105520"/>
            <a:ext cx="1143000" cy="7617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676520" y="44956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76520" y="28954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83080" y="396252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RB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396252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Orbe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087680" y="39625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OmniO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164000" y="24382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Arial"/>
              </a:rPr>
              <a:t>OrbixW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657600" y="2438280"/>
            <a:ext cx="1152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WW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0066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85" name=""/>
          <p:cNvSpPr/>
          <p:nvPr/>
        </p:nvSpPr>
        <p:spPr>
          <a:xfrm>
            <a:off x="3582360" y="510372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Object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04240" y="556092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3333cc"/>
                </a:solidFill>
                <a:latin typeface="Arial"/>
              </a:rPr>
              <a:t>Oracle  Inform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690960" y="5145120"/>
            <a:ext cx="196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Kamer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erwery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209680" y="3429000"/>
            <a:ext cx="6629400" cy="0"/>
          </a:xfrm>
          <a:prstGeom prst="line">
            <a:avLst/>
          </a:prstGeom>
          <a:ln w="9360">
            <a:solidFill>
              <a:srgbClr val="cc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7400" y="4952880"/>
            <a:ext cx="6629400" cy="0"/>
          </a:xfrm>
          <a:prstGeom prst="line">
            <a:avLst/>
          </a:prstGeom>
          <a:ln w="9360">
            <a:solidFill>
              <a:srgbClr val="cc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971800" y="3733920"/>
            <a:ext cx="175248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zykładowe projekty KI AGH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990720" y="3809880"/>
            <a:ext cx="13716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RIT -2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990720" y="2209680"/>
            <a:ext cx="11430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Bng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990720" y="533412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ECCANO</a:t>
            </a:r>
            <a:endParaRPr b="0" lang="en-US" sz="2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97" name="oraclelogo" descr=""/>
          <p:cNvPicPr/>
          <p:nvPr/>
        </p:nvPicPr>
        <p:blipFill>
          <a:blip r:embed="rId8"/>
          <a:stretch/>
        </p:blipFill>
        <p:spPr>
          <a:xfrm>
            <a:off x="2895480" y="2057400"/>
            <a:ext cx="1505160" cy="257040"/>
          </a:xfrm>
          <a:prstGeom prst="rect">
            <a:avLst/>
          </a:prstGeom>
          <a:ln w="0">
            <a:noFill/>
          </a:ln>
        </p:spPr>
      </p:pic>
      <p:pic>
        <p:nvPicPr>
          <p:cNvPr id="298" name="orllogo" descr=""/>
          <p:cNvPicPr/>
          <p:nvPr/>
        </p:nvPicPr>
        <p:blipFill>
          <a:blip r:embed="rId9"/>
          <a:stretch/>
        </p:blipFill>
        <p:spPr>
          <a:xfrm>
            <a:off x="2895480" y="2438280"/>
            <a:ext cx="476280" cy="476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050640" y="37339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E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735720" y="373392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71800" y="4952880"/>
            <a:ext cx="136224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ff"/>
                </a:solidFill>
                <a:latin typeface="Times New Roman"/>
              </a:rPr>
              <a:t>Telema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968560" y="5562720"/>
            <a:ext cx="3102120" cy="3988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Times New Roman"/>
              </a:rPr>
              <a:t>UCL,  HP,  INRIA, CCS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362320"/>
            <a:ext cx="251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Systemy wrażli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cc0066"/>
                </a:solidFill>
                <a:latin typeface="Times New Roman"/>
              </a:rPr>
              <a:t>na lokaliz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26280" y="3886200"/>
            <a:ext cx="224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Komponent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3333cc"/>
                </a:solidFill>
                <a:latin typeface="Times New Roman"/>
              </a:rPr>
              <a:t>system 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629400" y="5105520"/>
            <a:ext cx="168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MM w sie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pl-PL" sz="2400" spc="-1" strike="noStrike">
                <a:solidFill>
                  <a:srgbClr val="003366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y wrażliwe na lokalizację  (W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09" name="spirit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6019560" cy="38336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511720" y="5867280"/>
            <a:ext cx="43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rtualny świat  a loka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B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14" name="ic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5410080" cy="3886200"/>
          </a:xfrm>
          <a:prstGeom prst="rect">
            <a:avLst/>
          </a:prstGeom>
          <a:ln w="0">
            <a:noFill/>
          </a:ln>
        </p:spPr>
      </p:pic>
      <p:pic>
        <p:nvPicPr>
          <p:cNvPr id="315" name="theory" descr=""/>
          <p:cNvPicPr/>
          <p:nvPr/>
        </p:nvPicPr>
        <p:blipFill>
          <a:blip r:embed="rId3"/>
          <a:stretch/>
        </p:blipFill>
        <p:spPr>
          <a:xfrm>
            <a:off x="6095880" y="2743200"/>
            <a:ext cx="27147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ktywna  plakietka  systemu BA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19" name="nb" descr=""/>
          <p:cNvPicPr/>
          <p:nvPr/>
        </p:nvPicPr>
        <p:blipFill>
          <a:blip r:embed="rId2"/>
          <a:stretch/>
        </p:blipFill>
        <p:spPr>
          <a:xfrm>
            <a:off x="2514600" y="2514600"/>
            <a:ext cx="38098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kietki Systemu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23" name="badges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65530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chitektura systemu W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27" name="architecture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626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2133720" y="2971800"/>
            <a:ext cx="5333760" cy="16002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acl2640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2438280" cy="3886200"/>
          </a:xfrm>
          <a:prstGeom prst="rect">
            <a:avLst/>
          </a:prstGeom>
          <a:ln w="0">
            <a:noFill/>
          </a:ln>
        </p:spPr>
      </p:pic>
      <p:pic>
        <p:nvPicPr>
          <p:cNvPr id="333" name="smc" descr=""/>
          <p:cNvPicPr/>
          <p:nvPr/>
        </p:nvPicPr>
        <p:blipFill>
          <a:blip r:embed="rId3"/>
          <a:stretch/>
        </p:blipFill>
        <p:spPr>
          <a:xfrm>
            <a:off x="6324480" y="2743200"/>
            <a:ext cx="2057400" cy="2133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34" name=""/>
          <p:cNvSpPr/>
          <p:nvPr/>
        </p:nvSpPr>
        <p:spPr>
          <a:xfrm>
            <a:off x="3202200" y="19810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64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77480" y="20937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5866920"/>
            <a:ext cx="3276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bot taśm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CL 26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783480" y="51055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SUN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2590920"/>
            <a:ext cx="38124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680" y="25909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ojęcia podstawo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800600"/>
            <a:ext cx="38124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73392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8640" y="3657600"/>
            <a:ext cx="46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rchitektury i oprogramowa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41160" y="472428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ykłady systemów rozproszo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systemu 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05120" y="3581280"/>
            <a:ext cx="5486400" cy="20574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acl2640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838440" cy="1295640"/>
          </a:xfrm>
          <a:prstGeom prst="rect">
            <a:avLst/>
          </a:prstGeom>
          <a:ln w="0">
            <a:noFill/>
          </a:ln>
        </p:spPr>
      </p:pic>
      <p:pic>
        <p:nvPicPr>
          <p:cNvPr id="343" name="smc" descr=""/>
          <p:cNvPicPr/>
          <p:nvPr/>
        </p:nvPicPr>
        <p:blipFill>
          <a:blip r:embed="rId3"/>
          <a:stretch/>
        </p:blipFill>
        <p:spPr>
          <a:xfrm>
            <a:off x="7238880" y="4267080"/>
            <a:ext cx="685800" cy="762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44" name=""/>
          <p:cNvSpPr/>
          <p:nvPr/>
        </p:nvSpPr>
        <p:spPr>
          <a:xfrm>
            <a:off x="6629400" y="48006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81080" y="472428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267080" y="34290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209680" y="4343400"/>
            <a:ext cx="4876920" cy="304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20968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1148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9436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95680" y="28954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 rot="3532800">
            <a:off x="5601600" y="2551680"/>
            <a:ext cx="188640" cy="1486080"/>
          </a:xfrm>
          <a:prstGeom prst="upDownArrow">
            <a:avLst>
              <a:gd name="adj1" fmla="val 50000"/>
              <a:gd name="adj2" fmla="val 156828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 rot="17667000">
            <a:off x="3331080" y="2459160"/>
            <a:ext cx="195120" cy="1676160"/>
          </a:xfrm>
          <a:prstGeom prst="upDownArrow">
            <a:avLst>
              <a:gd name="adj1" fmla="val 50000"/>
              <a:gd name="adj2" fmla="val 171013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572000" y="4038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76720" y="4952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267800" y="426708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I O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FS interface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62" name="vfs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86200" y="2057400"/>
            <a:ext cx="464832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63" name=""/>
          <p:cNvCxnSpPr>
            <a:stCxn id="364" idx="4"/>
            <a:endCxn id="365" idx="3"/>
          </p:cNvCxnSpPr>
          <p:nvPr/>
        </p:nvCxnSpPr>
        <p:spPr>
          <a:xfrm flipH="1" rot="16200000">
            <a:off x="6933240" y="3162240"/>
            <a:ext cx="1982160" cy="610200"/>
          </a:xfrm>
          <a:prstGeom prst="curvedConnector5">
            <a:avLst>
              <a:gd name="adj1" fmla="val 47102"/>
              <a:gd name="adj2" fmla="val 68713"/>
              <a:gd name="adj3" fmla="val 47102"/>
            </a:avLst>
          </a:prstGeom>
          <a:ln w="38160">
            <a:solidFill>
              <a:srgbClr val="3333cc"/>
            </a:solidFill>
            <a:miter/>
          </a:ln>
        </p:spPr>
      </p:cxnSp>
      <p:sp>
        <p:nvSpPr>
          <p:cNvPr id="36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chemat prezent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162920" y="2819520"/>
            <a:ext cx="838080" cy="2854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15200" y="2514600"/>
            <a:ext cx="457200" cy="954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38880" y="2209680"/>
            <a:ext cx="76320" cy="5716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315200" y="2133720"/>
            <a:ext cx="609480" cy="3808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43800" y="2286000"/>
            <a:ext cx="152280" cy="190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>
            <a:hlinkClick r:id="rId2"/>
          </p:cNvPr>
          <p:cNvSpPr/>
          <p:nvPr/>
        </p:nvSpPr>
        <p:spPr>
          <a:xfrm>
            <a:off x="1828800" y="3124080"/>
            <a:ext cx="5334120" cy="20574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9480" y="3352680"/>
            <a:ext cx="1568520" cy="1295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3520" y="3276720"/>
            <a:ext cx="914400" cy="6858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2514600"/>
            <a:ext cx="990720" cy="83808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19920" y="2590920"/>
            <a:ext cx="76176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7280" y="5029200"/>
            <a:ext cx="990720" cy="8380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19920" y="5029200"/>
            <a:ext cx="76176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layer" descr=""/>
          <p:cNvPicPr/>
          <p:nvPr/>
        </p:nvPicPr>
        <p:blipFill>
          <a:blip r:embed="rId6"/>
          <a:stretch/>
        </p:blipFill>
        <p:spPr>
          <a:xfrm>
            <a:off x="1371600" y="4038480"/>
            <a:ext cx="685800" cy="53352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286000" y="3505320"/>
            <a:ext cx="4038480" cy="304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76720" y="46483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5400000">
            <a:off x="6172200" y="3429000"/>
            <a:ext cx="457200" cy="304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5400000">
            <a:off x="5600520" y="4000320"/>
            <a:ext cx="1600200" cy="3045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781680" y="4343400"/>
            <a:ext cx="14479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9600">
            <a:off x="2057400" y="4266720"/>
            <a:ext cx="4876920" cy="1526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039200" y="35053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I O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523880" y="3657600"/>
            <a:ext cx="4800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00800" y="32767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934320" y="2895480"/>
            <a:ext cx="228600" cy="152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781680" y="2971800"/>
            <a:ext cx="3812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rot="13516800">
            <a:off x="7849080" y="3275640"/>
            <a:ext cx="414360" cy="415800"/>
          </a:xfrm>
          <a:prstGeom prst="rtTriangl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8381880" y="3733920"/>
            <a:ext cx="15264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610480" y="3733920"/>
            <a:ext cx="30492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39000">
            <a:off x="8229240" y="3352320"/>
            <a:ext cx="609480" cy="381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5" name=""/>
          <p:cNvCxnSpPr>
            <a:stCxn id="394" idx="3"/>
            <a:endCxn id="365" idx="3"/>
          </p:cNvCxnSpPr>
          <p:nvPr/>
        </p:nvCxnSpPr>
        <p:spPr>
          <a:xfrm flipH="1">
            <a:off x="8228880" y="3546360"/>
            <a:ext cx="608760" cy="912240"/>
          </a:xfrm>
          <a:prstGeom prst="curvedConnector5">
            <a:avLst>
              <a:gd name="adj1" fmla="val -38106"/>
              <a:gd name="adj2" fmla="val 49980"/>
              <a:gd name="adj3" fmla="val -38106"/>
            </a:avLst>
          </a:prstGeom>
          <a:ln w="38160">
            <a:solidFill>
              <a:srgbClr val="3333cc"/>
            </a:solidFill>
            <a:miter/>
          </a:ln>
        </p:spPr>
      </p:cxnSp>
      <p:pic>
        <p:nvPicPr>
          <p:cNvPr id="396" name="player" descr=""/>
          <p:cNvPicPr/>
          <p:nvPr/>
        </p:nvPicPr>
        <p:blipFill>
          <a:blip r:embed="rId7"/>
          <a:stretch/>
        </p:blipFill>
        <p:spPr>
          <a:xfrm flipH="1">
            <a:off x="1600200" y="3657600"/>
            <a:ext cx="457200" cy="35388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1600200" y="3657600"/>
            <a:ext cx="457200" cy="30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752480" y="3809880"/>
            <a:ext cx="15264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828800" y="3733920"/>
            <a:ext cx="7632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828800" y="37339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9600">
            <a:off x="2057400" y="4419360"/>
            <a:ext cx="4876920" cy="1522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ff00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PEG -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143000" y="2286000"/>
            <a:ext cx="7086600" cy="22096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143000" y="2514600"/>
            <a:ext cx="5715000" cy="17524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66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2590920"/>
            <a:ext cx="441972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wój technologii oprogram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143000" y="2895480"/>
            <a:ext cx="2743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219320" y="5181480"/>
            <a:ext cx="7238880" cy="457200"/>
          </a:xfrm>
          <a:prstGeom prst="rightArrow">
            <a:avLst>
              <a:gd name="adj1" fmla="val 50000"/>
              <a:gd name="adj2" fmla="val 3958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371600" y="3276720"/>
            <a:ext cx="1143000" cy="228600"/>
          </a:xfrm>
          <a:prstGeom prst="leftRightArrow">
            <a:avLst>
              <a:gd name="adj1" fmla="val 50000"/>
              <a:gd name="adj2" fmla="val 9953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516040" y="2941560"/>
            <a:ext cx="104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Szy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Kom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886200" y="294156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słu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yste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23200" y="2906640"/>
            <a:ext cx="12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82040" y="297180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rw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630120" y="5867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ozwó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woluc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19" name="evolution" descr=""/>
          <p:cNvPicPr/>
          <p:nvPr/>
        </p:nvPicPr>
        <p:blipFill>
          <a:blip r:embed="rId2"/>
          <a:stretch/>
        </p:blipFill>
        <p:spPr>
          <a:xfrm>
            <a:off x="685800" y="2362320"/>
            <a:ext cx="78487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Pojęcie systemu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rozproszone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155800">
            <a:off x="3870000" y="4006800"/>
            <a:ext cx="2895480" cy="228600"/>
          </a:xfrm>
          <a:custGeom>
            <a:avLst/>
            <a:gdLst>
              <a:gd name="textAreaLeft" fmla="*/ 452160 w 2895480"/>
              <a:gd name="textAreaRight" fmla="*/ 2533680 w 28954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8716800">
            <a:off x="3200040" y="4114080"/>
            <a:ext cx="3657600" cy="22860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0099"/>
              </a:gs>
              <a:gs pos="50000">
                <a:srgbClr val="0066ff"/>
              </a:gs>
              <a:gs pos="100000">
                <a:srgbClr val="0000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6064800">
            <a:off x="6027480" y="3954240"/>
            <a:ext cx="1660680" cy="152640"/>
          </a:xfrm>
          <a:custGeom>
            <a:avLst/>
            <a:gdLst>
              <a:gd name="textAreaLeft" fmla="*/ 259200 w 1660680"/>
              <a:gd name="textAreaRight" fmla="*/ 1453320 w 166068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14400" y="3733920"/>
            <a:ext cx="25621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OMUNIKACJ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685800"/>
            <a:ext cx="64008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rozprosz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95480" y="5410080"/>
            <a:ext cx="838440" cy="762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819520" y="56386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5334120"/>
            <a:ext cx="838440" cy="76176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55627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29400" y="2362320"/>
            <a:ext cx="838080" cy="76176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25909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2362320"/>
            <a:ext cx="838440" cy="76176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25909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86000" y="33526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91320" y="3352680"/>
            <a:ext cx="228600" cy="609840"/>
          </a:xfrm>
          <a:prstGeom prst="upArrow">
            <a:avLst>
              <a:gd name="adj1" fmla="val 50000"/>
              <a:gd name="adj2" fmla="val 66693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5105520"/>
            <a:ext cx="1568520" cy="12952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2057400"/>
            <a:ext cx="1568520" cy="129528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105520" y="1981080"/>
            <a:ext cx="1568160" cy="12956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7680" y="476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2209680"/>
            <a:ext cx="14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83280" y="59436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83280" y="22096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0" y="4419720"/>
            <a:ext cx="19810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gradFill rotWithShape="0">
                  <a:gsLst>
                    <a:gs pos="0">
                      <a:srgbClr val="000099"/>
                    </a:gs>
                    <a:gs pos="100000">
                      <a:srgbClr val="3399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PROGRAMOWANIE</a:t>
            </a:r>
            <a:endParaRPr b="0" lang="en-US" sz="1600" spc="1" strike="noStrike">
              <a:ln w="0">
                <a:noFill/>
              </a:ln>
              <a:gradFill rotWithShape="0">
                <a:gsLst>
                  <a:gs pos="0">
                    <a:srgbClr val="000099"/>
                  </a:gs>
                  <a:gs pos="100000">
                    <a:srgbClr val="3399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7315200" y="35053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RZĘ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609480"/>
            <a:ext cx="6858000" cy="914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proszony system komputerow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7696080" y="609480"/>
            <a:ext cx="924120" cy="9241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1082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5029200"/>
            <a:ext cx="1568520" cy="129528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78320" y="586728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K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44956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791320" y="441972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3657600"/>
            <a:ext cx="5333760" cy="99072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IE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/>
          <p:nvPr/>
        </p:nvCxnSpPr>
        <p:spPr>
          <a:xfrm flipH="1" rot="16200000">
            <a:off x="3025800" y="2590560"/>
            <a:ext cx="2286720" cy="3505680"/>
          </a:xfrm>
          <a:prstGeom prst="curvedConnector5">
            <a:avLst>
              <a:gd name="adj1" fmla="val 55329"/>
              <a:gd name="adj2" fmla="val 49994"/>
              <a:gd name="adj3" fmla="val 55329"/>
            </a:avLst>
          </a:prstGeom>
          <a:ln w="57240">
            <a:solidFill>
              <a:srgbClr val="000099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gradFill rotWithShape="0">
            <a:gsLst>
              <a:gs pos="0">
                <a:srgbClr val="ff99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2819520"/>
            <a:ext cx="457200" cy="380880"/>
          </a:xfrm>
          <a:prstGeom prst="rect">
            <a:avLst/>
          </a:prstGeom>
          <a:gradFill rotWithShape="0">
            <a:gsLst>
              <a:gs pos="0">
                <a:srgbClr val="00ffcc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38680" y="5562720"/>
            <a:ext cx="457200" cy="3808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2895480"/>
            <a:ext cx="838440" cy="0"/>
          </a:xfrm>
          <a:prstGeom prst="line">
            <a:avLst/>
          </a:prstGeom>
          <a:ln w="57240">
            <a:solidFill>
              <a:srgbClr val="3333cc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914400" y="373392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99ff"/>
                    </a:gs>
                    <a:gs pos="100000">
                      <a:srgbClr val="0000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RZĘT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99ff"/>
                  </a:gs>
                  <a:gs pos="100000">
                    <a:srgbClr val="0000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14600" y="4724280"/>
            <a:ext cx="24382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75acac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IECI KOMPUTEROW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75acac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867280" y="4038480"/>
            <a:ext cx="84780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2828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LOKALN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2828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867280" y="4876920"/>
            <a:ext cx="8953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2828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EJSKI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2828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867280" y="5791320"/>
            <a:ext cx="9334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gradFill rotWithShape="0">
                  <a:gsLst>
                    <a:gs pos="0">
                      <a:srgbClr val="002828"/>
                    </a:gs>
                    <a:gs pos="100000">
                      <a:srgbClr val="006666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OZLEGŁE</a:t>
            </a:r>
            <a:endParaRPr b="0" lang="en-US" sz="2000" spc="1" strike="noStrike">
              <a:ln w="0">
                <a:noFill/>
              </a:ln>
              <a:gradFill rotWithShape="0">
                <a:gsLst>
                  <a:gs pos="0">
                    <a:srgbClr val="002828"/>
                  </a:gs>
                  <a:gs pos="100000">
                    <a:srgbClr val="006666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2057400" y="3962160"/>
            <a:ext cx="838800" cy="61020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 flipV="1">
            <a:off x="2057040" y="3123360"/>
            <a:ext cx="762840" cy="68652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>
            <a:off x="5028840" y="5181480"/>
            <a:ext cx="762840" cy="61056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5028840" y="4190760"/>
            <a:ext cx="762840" cy="52416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cxnSp>
        <p:nvCxnSpPr>
          <p:cNvPr id="102" name=""/>
          <p:cNvCxnSpPr/>
          <p:nvPr/>
        </p:nvCxnSpPr>
        <p:spPr>
          <a:xfrm>
            <a:off x="5105160" y="4952520"/>
            <a:ext cx="533880" cy="1080"/>
          </a:xfrm>
          <a:prstGeom prst="straightConnector1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 rot="2386800">
            <a:off x="7259760" y="4952520"/>
            <a:ext cx="1884240" cy="1905120"/>
          </a:xfrm>
          <a:prstGeom prst="irregularSeal2">
            <a:avLst/>
          </a:prstGeom>
          <a:gradFill rotWithShape="0">
            <a:gsLst>
              <a:gs pos="0">
                <a:srgbClr val="ff990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2819520"/>
            <a:ext cx="76320" cy="759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2819520"/>
            <a:ext cx="75960" cy="759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553080" y="2819520"/>
            <a:ext cx="76320" cy="759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7480" y="5638680"/>
            <a:ext cx="130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33640" y="533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848720" y="609480"/>
            <a:ext cx="923760" cy="9241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315200" cy="9907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chitektura sprzęto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286000" y="259092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ZASOBY OBLICZENIOWE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562720" y="2057400"/>
            <a:ext cx="19810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2057400"/>
            <a:ext cx="26668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  komun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09480" y="26668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zent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276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s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20574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44956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51055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ranspor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57150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22240" y="57261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zyc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69960" y="51166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Łącza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43200" y="3276720"/>
            <a:ext cx="46483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34290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76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294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81480" y="3657600"/>
            <a:ext cx="83844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52680" y="2097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562720" y="213372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029200" y="48769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" name=""/>
          <p:cNvSpPr/>
          <p:nvPr/>
        </p:nvSpPr>
        <p:spPr>
          <a:xfrm>
            <a:off x="4269600" y="563868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rstwa Pośredniczą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CP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4419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rstwa pośredniczą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429000" y="21337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676520" y="3048120"/>
            <a:ext cx="1447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RBA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38680" y="312408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5e46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COM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cc99ff"/>
                  </a:gs>
                  <a:gs pos="100000">
                    <a:srgbClr val="5e46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"/>
          <p:cNvSpPr/>
          <p:nvPr/>
        </p:nvSpPr>
        <p:spPr>
          <a:xfrm>
            <a:off x="1906560" y="3809880"/>
            <a:ext cx="82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410080" y="441972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3960" y="55627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Środowiska obiekt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350496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14400" y="2057400"/>
            <a:ext cx="243828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2743200"/>
            <a:ext cx="1295640" cy="990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2286000"/>
            <a:ext cx="2438280" cy="16002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029200"/>
            <a:ext cx="7238880" cy="1447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85800" y="4038480"/>
            <a:ext cx="777240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19920" y="3048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866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771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430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7220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1629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666880" y="30481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rot="10815000">
            <a:off x="72385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0815000">
            <a:off x="1294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10815000">
            <a:off x="19051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rot="10815000">
            <a:off x="65527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rot="10815000">
            <a:off x="25909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041000" y="41403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R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21320" y="60199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SLUGI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SYSTEMOWE COR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943600" y="2362320"/>
            <a:ext cx="20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STANDARDO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1981080"/>
            <a:ext cx="19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ŻYTKOWN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123720" y="2743200"/>
            <a:ext cx="838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362320" y="2285640"/>
            <a:ext cx="160020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039920" y="21528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26240" y="257508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ie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913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rot="10815000">
            <a:off x="5866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jęcie obiek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523880" y="2895480"/>
            <a:ext cx="1295640" cy="1143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7120" y="327672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2971800"/>
            <a:ext cx="13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7120" y="363060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295640" y="449568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720" y="4495680"/>
            <a:ext cx="300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Implementac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oper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3352680"/>
            <a:ext cx="761760" cy="228600"/>
          </a:xfrm>
          <a:prstGeom prst="leftRightArrow">
            <a:avLst>
              <a:gd name="adj1" fmla="val 50000"/>
              <a:gd name="adj2" fmla="val 66337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657600" y="251460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29400" y="3598920"/>
            <a:ext cx="838080" cy="2332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781680" y="3241800"/>
            <a:ext cx="457200" cy="9504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3041640"/>
            <a:ext cx="75960" cy="466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2936880"/>
            <a:ext cx="609840" cy="3110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010280" y="3048120"/>
            <a:ext cx="152640" cy="15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86400" y="3429000"/>
            <a:ext cx="1143000" cy="152280"/>
          </a:xfrm>
          <a:prstGeom prst="leftRightArrow">
            <a:avLst>
              <a:gd name="adj1" fmla="val 50000"/>
              <a:gd name="adj2" fmla="val 149423"/>
            </a:avLst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29400" y="2590920"/>
            <a:ext cx="1295280" cy="1447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5:23:20Z</dcterms:created>
  <dc:creator>K.Z.</dc:creator>
  <dc:description/>
  <dc:language>en-US</dc:language>
  <cp:lastModifiedBy>DSRG</cp:lastModifiedBy>
  <cp:lastPrinted>1998-09-21T07:40:02Z</cp:lastPrinted>
  <dcterms:modified xsi:type="dcterms:W3CDTF">1998-10-05T08:04:42Z</dcterms:modified>
  <cp:revision>35</cp:revision>
  <dc:subject/>
  <dc:title>Bez tytułu slajdu</dc:title>
</cp:coreProperties>
</file>